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E988-B699-41AD-9BE3-31C0B227F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0DF6-345E-4FE2-85C2-D438913E7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FE97-43E9-4295-B6E5-AFC79145D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1115-00DF-4457-B0C1-F09465B65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1CF9-F16D-4EDF-A88C-3CFA75153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F550-EA0C-42FD-8C21-1B11E4D81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9247-BD4F-47DE-9DB8-C39676B46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2125-9E37-4B2D-B718-B58CDE68C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2EDB-6EFB-42EE-953A-C5E41865E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B22C-74F6-49FE-A15B-038C8C520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6811-CF37-418C-BE8B-810C5C7C5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9B23-1B0D-4E18-9778-0EF6B4B28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6C21-EEC5-4974-BF89-B7DD849DC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FCFA-6D55-4810-9FF3-20CDFC451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3221-F0E9-4829-A436-3EBEFD6F7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EF1E-281D-4A28-B47D-1C544D330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1142-FD45-40DD-98A4-EC71F2166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455A-1E08-4B91-B90B-C6B58C431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ADAB-134C-45C1-9727-B41342F42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3CDC-3F86-42D4-9D61-6774005AD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1BC3-C7C8-4EBF-9F5C-D4B6076AF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049A-8C71-44DA-AE4E-AB75BADCA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E680-D43D-4F8E-A3E0-1CA59D24C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0656-363A-452A-8D26-F8DEF5709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E208-94C2-42C0-8B04-BF7BF2D94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A727-5AE6-47ED-936C-56AB33EBA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62B4-5760-42ED-B079-2826F0C08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1050-DD28-4DE9-8BF8-DD0A128D3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060C-9E7D-4B68-A679-900CDA3AA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B2BC-9A55-4E54-A74D-5F0308F3F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CE70-446B-4171-B161-F661B82EE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74D4-393B-4352-A9D9-795F3C43E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AFA1-EE22-4463-8915-25FE7CA9F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F8D4-A0B7-4852-AC84-6CA8AA777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3730-0DEA-46F3-B29B-542BE676D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26CF-6ABE-411D-A068-94B6C27DB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17E9-1174-4D1B-A691-89E650CA0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5563-4205-43C3-BD73-C1A0A7622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C082-E36D-4953-B72D-460668870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00C7-755F-4451-99E2-BDE68C126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08F7-1E9E-4C90-B3C0-1696AE19B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F9E0-D4A8-44E0-B485-41F60254E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9A9B-1331-4FB2-BE94-BA1F12081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B6C6-DA10-44DE-93F2-79CCFA1F0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99FE-47AD-4FDD-8B03-EDCDA06DC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B611-CD3F-42D5-8215-2AA719A94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07E0-22AF-49D3-B58A-5CF66CA0A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8ECF-B709-46CA-B794-827B3F64E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DDA4-7391-4247-8413-C7F5D50A5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4C86-8D10-4895-AE94-EB81F8ACE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9540-4731-43DC-81AA-DC3C80AC4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228C-D7F6-4D44-8E96-B8C82773A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6D26-E29B-4162-81B6-7140CEF78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B4ED-3488-4131-ACC5-1F0F48E4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6F75-8CB5-44FF-982A-C503CB25D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91A2-A934-445F-8A7A-AB8DB7225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B9FA-CAEF-4183-ACDE-12EF7B60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B70C-1B72-443A-9172-09ABB9AE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683F-5AE8-4594-878A-D5AADD2A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52F1-7EA8-407B-BB65-32DE3549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C124-E3D4-4FCA-8C21-6EC3149D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E3EB-C816-4E45-9691-D19A2D4E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B08C-6019-46D2-B7A2-1564B266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5809-634A-43A3-BAFF-E735B33C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9ADA-58D7-493F-93F9-DFF31645D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image" Target="../media/image3.png"/><Relationship Id="rId6" Type="http://schemas.openxmlformats.org/officeDocument/2006/relationships/slide" Target="slide7.xml"/><Relationship Id="rId7" Type="http://schemas.openxmlformats.org/officeDocument/2006/relationships/slide" Target="slide54.xml"/><Relationship Id="rId8" Type="http://schemas.openxmlformats.org/officeDocument/2006/relationships/image" Target="../media/image3.png"/><Relationship Id="rId9" Type="http://schemas.openxmlformats.org/officeDocument/2006/relationships/slide" Target="slide9.xml"/><Relationship Id="rId10" Type="http://schemas.openxmlformats.org/officeDocument/2006/relationships/slide" Target="slide16.xml"/><Relationship Id="rId11" Type="http://schemas.openxmlformats.org/officeDocument/2006/relationships/image" Target="../media/image3.png"/><Relationship Id="rId12" Type="http://schemas.openxmlformats.org/officeDocument/2006/relationships/slide" Target="slide11.xml"/><Relationship Id="rId13" Type="http://schemas.openxmlformats.org/officeDocument/2006/relationships/slide" Target="slide20.xml"/><Relationship Id="rId14" Type="http://schemas.openxmlformats.org/officeDocument/2006/relationships/image" Target="../media/image3.png"/><Relationship Id="rId15" Type="http://schemas.openxmlformats.org/officeDocument/2006/relationships/slide" Target="slide13.xml"/><Relationship Id="rId16" Type="http://schemas.openxmlformats.org/officeDocument/2006/relationships/slide" Target="slide19.xml"/><Relationship Id="rId17" Type="http://schemas.openxmlformats.org/officeDocument/2006/relationships/image" Target="../media/image3.png"/><Relationship Id="rId18" Type="http://schemas.openxmlformats.org/officeDocument/2006/relationships/slide" Target="slide15.xml"/><Relationship Id="rId19" Type="http://schemas.openxmlformats.org/officeDocument/2006/relationships/slide" Target="slide28.xml"/><Relationship Id="rId20" Type="http://schemas.openxmlformats.org/officeDocument/2006/relationships/image" Target="../media/image3.png"/><Relationship Id="rId21" Type="http://schemas.openxmlformats.org/officeDocument/2006/relationships/slide" Target="slide17.xml"/><Relationship Id="rId22" Type="http://schemas.openxmlformats.org/officeDocument/2006/relationships/slide" Target="slide32.xml"/><Relationship Id="rId23" Type="http://schemas.openxmlformats.org/officeDocument/2006/relationships/image" Target="../media/image3.png"/><Relationship Id="rId24" Type="http://schemas.openxmlformats.org/officeDocument/2006/relationships/slide" Target="slide19.xml"/><Relationship Id="rId25" Type="http://schemas.openxmlformats.org/officeDocument/2006/relationships/slide" Target="slide36.xml"/><Relationship Id="rId26" Type="http://schemas.openxmlformats.org/officeDocument/2006/relationships/image" Target="../media/image3.png"/><Relationship Id="rId27" Type="http://schemas.openxmlformats.org/officeDocument/2006/relationships/slide" Target="slide21.xml"/><Relationship Id="rId28" Type="http://schemas.openxmlformats.org/officeDocument/2006/relationships/slide" Target="slide41.xml"/><Relationship Id="rId29" Type="http://schemas.openxmlformats.org/officeDocument/2006/relationships/image" Target="../media/image3.png"/><Relationship Id="rId30" Type="http://schemas.openxmlformats.org/officeDocument/2006/relationships/slide" Target="slide23.xml"/><Relationship Id="rId31" Type="http://schemas.openxmlformats.org/officeDocument/2006/relationships/slide" Target="slide44.xml"/><Relationship Id="rId32" Type="http://schemas.openxmlformats.org/officeDocument/2006/relationships/image" Target="../media/image3.png"/><Relationship Id="rId33" Type="http://schemas.openxmlformats.org/officeDocument/2006/relationships/slide" Target="slide25.xml"/><Relationship Id="rId34" Type="http://schemas.openxmlformats.org/officeDocument/2006/relationships/slide" Target="slide48.xml"/><Relationship Id="rId35" Type="http://schemas.openxmlformats.org/officeDocument/2006/relationships/image" Target="../media/image3.png"/><Relationship Id="rId36" Type="http://schemas.openxmlformats.org/officeDocument/2006/relationships/slide" Target="slide27.xml"/><Relationship Id="rId37" Type="http://schemas.openxmlformats.org/officeDocument/2006/relationships/slide" Target="slide52.xml"/><Relationship Id="rId38" Type="http://schemas.openxmlformats.org/officeDocument/2006/relationships/image" Target="../media/image3.png"/><Relationship Id="rId39" Type="http://schemas.openxmlformats.org/officeDocument/2006/relationships/slide" Target="slide29.xml"/><Relationship Id="rId40" Type="http://schemas.openxmlformats.org/officeDocument/2006/relationships/slide" Target="slide30.xml"/><Relationship Id="rId41" Type="http://schemas.openxmlformats.org/officeDocument/2006/relationships/image" Target="../media/image3.png"/><Relationship Id="rId42" Type="http://schemas.openxmlformats.org/officeDocument/2006/relationships/slide" Target="slide31.xml"/><Relationship Id="rId43" Type="http://schemas.openxmlformats.org/officeDocument/2006/relationships/slide" Target="slide32.xml"/><Relationship Id="rId44" Type="http://schemas.openxmlformats.org/officeDocument/2006/relationships/image" Target="../media/image3.png"/><Relationship Id="rId45" Type="http://schemas.openxmlformats.org/officeDocument/2006/relationships/slide" Target="slide33.xml"/><Relationship Id="rId46" Type="http://schemas.openxmlformats.org/officeDocument/2006/relationships/slide" Target="slide34.xml"/><Relationship Id="rId47" Type="http://schemas.openxmlformats.org/officeDocument/2006/relationships/image" Target="../media/image3.png"/><Relationship Id="rId48" Type="http://schemas.openxmlformats.org/officeDocument/2006/relationships/slide" Target="slide35.xml"/><Relationship Id="rId49" Type="http://schemas.openxmlformats.org/officeDocument/2006/relationships/slide" Target="slide36.xml"/><Relationship Id="rId50" Type="http://schemas.openxmlformats.org/officeDocument/2006/relationships/image" Target="../media/image3.png"/><Relationship Id="rId51" Type="http://schemas.openxmlformats.org/officeDocument/2006/relationships/slide" Target="slide37.xml"/><Relationship Id="rId52" Type="http://schemas.openxmlformats.org/officeDocument/2006/relationships/slide" Target="slide38.xml"/><Relationship Id="rId53" Type="http://schemas.openxmlformats.org/officeDocument/2006/relationships/image" Target="../media/image3.png"/><Relationship Id="rId54" Type="http://schemas.openxmlformats.org/officeDocument/2006/relationships/slide" Target="slide39.xml"/><Relationship Id="rId55" Type="http://schemas.openxmlformats.org/officeDocument/2006/relationships/image" Target="../media/image3.png"/><Relationship Id="rId56" Type="http://schemas.openxmlformats.org/officeDocument/2006/relationships/image" Target="../media/image3.png"/><Relationship Id="rId57" Type="http://schemas.openxmlformats.org/officeDocument/2006/relationships/image" Target="../media/image3.png"/><Relationship Id="rId58" Type="http://schemas.openxmlformats.org/officeDocument/2006/relationships/image" Target="../media/image3.png"/><Relationship Id="rId59" Type="http://schemas.openxmlformats.org/officeDocument/2006/relationships/image" Target="../media/image3.png"/><Relationship Id="rId60" Type="http://schemas.openxmlformats.org/officeDocument/2006/relationships/image" Target="../media/image3.png"/><Relationship Id="rId61" Type="http://schemas.openxmlformats.org/officeDocument/2006/relationships/image" Target="../media/image3.png"/><Relationship Id="rId62" Type="http://schemas.openxmlformats.org/officeDocument/2006/relationships/slideLayout" Target="../slideLayouts/slideLayout1.xml"/><Relationship Id="rId6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Ecosystem Jeopard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view G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MacOS" descr=""/>
          <p:cNvPicPr/>
          <p:nvPr/>
        </p:nvPicPr>
        <p:blipFill>
          <a:blip r:embed="rId1"/>
          <a:stretch/>
        </p:blipFill>
        <p:spPr>
          <a:xfrm>
            <a:off x="0" y="6400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2459160" y="3067200"/>
            <a:ext cx="5018040" cy="338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at is an omnivo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 environment that has living and nonliving things that interac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at is an eco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0960" y="233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e specific role or job an organism has in its habita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at is a nich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ll the members of one species that live within an area of an ecosyste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at is a popul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62040"/>
            <a:ext cx="77724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e different populations that interact with each other in the same are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at is a commun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14320" y="2566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 specific body part that helps an organism survive in its habita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2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3" action="ppaction://hlinksldjump"/>
              </a:rPr>
              <a:t>$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3">
            <a:hlinkClick r:id="rId4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6" action="ppaction://hlinksldjump"/>
              </a:rPr>
              <a:t>$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4">
            <a:hlinkClick r:id="rId7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9" action="ppaction://hlinksldjump"/>
              </a:rPr>
              <a:t>$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5">
            <a:hlinkClick r:id="rId10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12" action="ppaction://hlinksldjump"/>
              </a:rPr>
              <a:t>$2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6">
            <a:hlinkClick r:id="rId13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15" action="ppaction://hlinksldjump"/>
              </a:rPr>
              <a:t>$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7">
            <a:hlinkClick r:id="rId16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18" action="ppaction://hlinksldjump"/>
              </a:rPr>
              <a:t>$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8">
            <a:hlinkClick r:id="rId19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21" action="ppaction://hlinksldjump"/>
              </a:rPr>
              <a:t>$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9">
            <a:hlinkClick r:id="rId22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24" action="ppaction://hlinksldjump"/>
              </a:rPr>
              <a:t>$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0">
            <a:hlinkClick r:id="rId25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27" action="ppaction://hlinksldjump"/>
              </a:rPr>
              <a:t>$2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1">
            <a:hlinkClick r:id="rId28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30" action="ppaction://hlinksldjump"/>
              </a:rPr>
              <a:t>$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2">
            <a:hlinkClick r:id="rId3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33" action="ppaction://hlinksldjump"/>
              </a:rPr>
              <a:t>$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3">
            <a:hlinkClick r:id="rId34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36" action="ppaction://hlinksldjump"/>
              </a:rPr>
              <a:t>$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4">
            <a:hlinkClick r:id="rId37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39" action="ppaction://hlinksldjump"/>
              </a:rPr>
              <a:t>$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5">
            <a:hlinkClick r:id="rId40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42" action="ppaction://hlinksldjump"/>
              </a:rPr>
              <a:t>$2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6">
            <a:hlinkClick r:id="rId43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45" action="ppaction://hlinksldjump"/>
              </a:rPr>
              <a:t>$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7">
            <a:hlinkClick r:id="rId46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48" action="ppaction://hlinksldjump"/>
              </a:rPr>
              <a:t>$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18">
            <a:hlinkClick r:id="rId49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51" action="ppaction://hlinksldjump"/>
              </a:rPr>
              <a:t>$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9">
            <a:hlinkClick r:id="rId52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cc"/>
                </a:solidFill>
                <a:uFillTx/>
                <a:latin typeface="Verdana"/>
                <a:hlinkClick r:id="rId54" action="ppaction://hlinksldjump"/>
              </a:rPr>
              <a:t>$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20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$2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21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$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22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$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3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$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4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$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5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$2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6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$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27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33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cabula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28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33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s of a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cosyste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29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t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ow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0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erg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ow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1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n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out It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33"/>
          <p:cNvSpPr/>
          <p:nvPr/>
        </p:nvSpPr>
        <p:spPr>
          <a:xfrm>
            <a:off x="0" y="0"/>
            <a:ext cx="380880" cy="3049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at is an adapt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01720" y="284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 group of different parts that work together to perform a func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at is a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e main source of energy in any ecosyste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at is the su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How many directions a food chain can flo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at is 1 dire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ese organisms produce their own food from energy they received from the su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at are produc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ese organisms must consume energy from other organism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 organism that gets its energy from eating mea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82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at are consum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ese are 2 items that decomposers help put back into the soi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at are nutrients and minera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is diagram shows how food chains in an ecosystem are connect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at is a food we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is is the kind of temperature in which decay occurs the fastes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at is hot/war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wo factors that speed up the decaying proces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at ar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armer temperature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moisture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xy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 gas that is released into the atmosphere during the decay proces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Verdana"/>
              </a:rPr>
              <a:t>What is a carnivor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at is carbon dioxid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944720"/>
            <a:ext cx="7772400" cy="25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e result of an ecosystem that has no decompose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at are too many dead organism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66720" y="11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reason why a grasshopper population may decrease in the ecosystem be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0" descr=""/>
          <p:cNvPicPr/>
          <p:nvPr/>
        </p:nvPicPr>
        <p:blipFill>
          <a:blip r:embed="rId1"/>
          <a:stretch/>
        </p:blipFill>
        <p:spPr>
          <a:xfrm>
            <a:off x="1920960" y="2502000"/>
            <a:ext cx="533376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22868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sible answer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grass dies and they have no food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nakes overpopulate and eat them all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kookaburras overpopulate and eat them all.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2835360" y="4114800"/>
            <a:ext cx="3581280" cy="2419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xplain what would happen if the snake population disappeared in this ecosyste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0" descr=""/>
          <p:cNvPicPr/>
          <p:nvPr/>
        </p:nvPicPr>
        <p:blipFill>
          <a:blip r:embed="rId1"/>
          <a:stretch/>
        </p:blipFill>
        <p:spPr>
          <a:xfrm>
            <a:off x="2297160" y="3429000"/>
            <a:ext cx="460044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sible answers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agle would eat more kookaburras and the kookaburras would decrease in population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asshoppers and mice could overpopulate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2862360" y="3268800"/>
            <a:ext cx="3581280" cy="2419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me one food chain that is a part of this food web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2041560" y="1822320"/>
            <a:ext cx="511488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sible answer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-Sun-orchid-mosquito-frog-raccoon-alligat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-Sun-bladderwort-turtle-alligat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-Sun-orchid-mosquito-carp-heron-alligator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3859200" y="2511360"/>
            <a:ext cx="4962600" cy="4029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960" y="452520"/>
            <a:ext cx="7772400" cy="20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the difference between a producer and a consumer in this eco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0" descr=""/>
          <p:cNvPicPr/>
          <p:nvPr/>
        </p:nvPicPr>
        <p:blipFill>
          <a:blip r:embed="rId1"/>
          <a:stretch/>
        </p:blipFill>
        <p:spPr>
          <a:xfrm>
            <a:off x="1974960" y="1930320"/>
            <a:ext cx="511488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 organism that gets its energy from eating plan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ducers produce their own food with energy gained from the sun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umers get energy by consuming other organis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2054160" y="2401920"/>
            <a:ext cx="5114880" cy="41529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t the following steps in order to tell how a decomposer affects an ecosystem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_____ Finally, animals eat the plant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_____ Next, minerals and nutrients are put bac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into the soi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_____ First, decomposers digest the waste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the remains of dead animal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_____ Then living plants use the nutr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st, decomposers digest the waste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the remains of dead animal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xt, minerals and nutrients are put bac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into the soil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en living plants use the nutrients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ally, animals eat the plant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Jeopardy Answer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difference between an animal’s niche and its habita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MacOS" descr=""/>
          <p:cNvPicPr/>
          <p:nvPr/>
        </p:nvPicPr>
        <p:blipFill>
          <a:blip r:embed="rId1"/>
          <a:stretch/>
        </p:blipFill>
        <p:spPr>
          <a:xfrm>
            <a:off x="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0960" y="1603080"/>
            <a:ext cx="7772400" cy="28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 animal’s niche is its specific role or job in an ecosystem.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 animal’s habitat is simply Slide 2where it liv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82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What is an herbivor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 organism that breaks down dead plants and animals into nutrients for the soi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5e00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hat is a decompos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n organism that gets energy by eating both plants and animal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01:35:33Z</dcterms:created>
  <dc:creator>Heather</dc:creator>
  <dc:description/>
  <dc:language>en-US</dc:language>
  <cp:lastModifiedBy>udsd</cp:lastModifiedBy>
  <dcterms:modified xsi:type="dcterms:W3CDTF">2011-10-26T18:11:56Z</dcterms:modified>
  <cp:revision>9</cp:revision>
  <dc:subject/>
  <dc:title>Ecosystem Jeopardy</dc:title>
</cp:coreProperties>
</file>